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11D2-78F7-4699-9372-9DE0236C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099F-E52D-43E0-B54D-1E7317E2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9FCC-81D8-4688-994B-A4940BFB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B940-E9A2-4DD6-A478-1BB98DEA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D2D4-6036-4994-8D5F-8744CF8B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C469-4815-47E4-AD05-E5180077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7DCA-26BB-449C-AF76-FD39E99A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F21D-C735-4695-8FAF-4AB7D198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A0B8-8C19-4D2A-BBA2-47E18656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4E84-2090-4ACA-92CE-FA55E028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5142-1490-4558-83F0-1B47E0B8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0BE5-425C-4E13-915D-8F8F349E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42EA-52B4-4F09-AEDA-F7FDB816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C3E6-C922-415A-BBA5-9810A91B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9328-9EF6-4E1A-8C0C-F8D7EED7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484C-EE4E-4846-BC4C-F5173F66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4C57-8B5A-4698-A85C-FA94D836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EDEC-4793-4039-8129-DAD60FBA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A3B9-BB98-4B88-93EE-E2D28AF0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6CD0-FDDF-42CE-9EB6-383EEF42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D32F-D59E-49C8-B4B4-D1481E54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8578-AD54-4D85-AF8C-C96D369F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518E-B915-490D-A541-28964E39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07C2-853B-4546-AE72-6D44D2D6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B495-0B9C-456C-AE1C-82A93365D5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FF14-B7BD-41CF-B190-CB134FB1CC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529360" y="401760"/>
            <a:ext cx="3390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moris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de Aliata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con azules tahalí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rvos alfanjes dorad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i coronados de plu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bonetes african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no de lutos vest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traron de cuatro en cuatr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l mal logrado Aliat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afligidos sold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gran empresa del Fénix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n la bandera vola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penas lo trató el vien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627280" y="60480"/>
            <a:ext cx="3745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emiendo el fuego tal al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a por señas de dolor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arre el suelo y deja el camp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rrastrando entre la se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l alférez va arrastran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alió el gallardo Aliat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n cien moriscos gallar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 defensa de Mot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socorro de su her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 caballo salió el mor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otro día desdich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 negras andas le vuel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 donde salió a caball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340000" y="333360"/>
            <a:ext cx="3527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balleros del maestr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n el camino encontrar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cubiertos de unas cañ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furiosos le saltear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iriéndole malamen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rió Aliatar mal logra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los suyos, aunque rot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vencidos se tornar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sólo le lloró Zai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ero acompáñanla cu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l Albaicín  a la Alham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eben de Genil y Darr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528280" y="546120"/>
            <a:ext cx="331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s damas  como a galá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valientes como a brav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alcaides como igu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plebeyos como a ampar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3:33:51Z</dcterms:created>
  <dc:creator> </dc:creator>
  <dc:description/>
  <dc:language>en-US</dc:language>
  <cp:lastModifiedBy> </cp:lastModifiedBy>
  <dcterms:modified xsi:type="dcterms:W3CDTF">2007-10-03T03:57:16Z</dcterms:modified>
  <cp:revision>7</cp:revision>
  <dc:subject/>
  <dc:title>Diapositiva 1</dc:title>
</cp:coreProperties>
</file>